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AC0E-3F97-41C7-91F8-8300A73C6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30E8-AD8C-4F56-A371-B845A9A1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931D-6C51-4A97-AD17-AFDD4967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153-FBD5-49FE-A7E1-3EB3046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84A-EC97-4851-92E4-8DE869C2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46E-C2FE-40B6-8C97-EC354E76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652-2D67-4B15-9467-415E1678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2FD-E43A-424D-9377-8384691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0C0-C645-404D-8A1A-8BDEC97F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DA2-A687-4899-AE8F-DAF4EC4B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91A-ABDD-402F-B3E5-04D91026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0BB-AC76-4760-91A6-6FBDB146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FDE-F36D-4B17-B31D-971B7CAE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E29-4C44-4687-8D16-8BCBA305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F54F-1108-4774-94DC-1E3CD634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a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a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l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i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ha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h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ri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i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am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iz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mad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rs. Brown Went to Tow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hak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cran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makeup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1120" y="15998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9. quak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0. firehous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1. mistak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12. chase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5. bracele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6. smil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7. insid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chime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-360"/>
            <a:ext cx="4800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3. scrap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4. replac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5. compar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6. shap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28T19:58:20Z</dcterms:modified>
  <cp:revision>3</cp:revision>
  <dc:subject/>
  <dc:title>The Art Lesson Group A</dc:title>
</cp:coreProperties>
</file>